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las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D13-144F-4343-84F7-9CD00CBB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526-8272-4CEA-86C0-2E6F5AC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E36-34B6-4A36-A6D3-BF017A97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9AE-67C3-4BC2-A0D3-520F4E22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F51-CC8C-4508-B7BA-3ED26DB5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902-5BCD-4C71-8C62-7958BFF7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961-D5D0-4831-8F16-2AA796B3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6BD-06E6-48B6-AEDC-F946A7A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84D-A4FC-4850-BA97-A6CC030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A5F-306C-4390-902D-6D81DD7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C8E-FA02-4108-B094-46F4A00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6EF-DAB7-4048-8625-022D032C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04BB-324F-4C76-8159-7E65BB980B8B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8179c"/>
                </a:solidFill>
                <a:latin typeface="Comic Sans MS"/>
              </a:rPr>
              <a:t>Interpreting Stem-and-leaf Diagrams</a:t>
            </a:r>
            <a:endParaRPr b="0" lang="en-US" sz="36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52388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df9"/>
                </a:solidFill>
                <a:latin typeface="Comic Sans MS"/>
              </a:rPr>
              <a:t>The aim of this lesson is to be able to read, understand and extract data from a stem-and-leaf diagram</a:t>
            </a:r>
            <a:endParaRPr b="0" lang="en-US" sz="4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following is a stem-and-leaf diagram representing the pulse rates of 12 students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2057400"/>
            <a:ext cx="0" cy="160020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133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523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The stem            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514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276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355ab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905120"/>
            <a:ext cx="838080" cy="457200"/>
          </a:xfrm>
          <a:prstGeom prst="line">
            <a:avLst/>
          </a:prstGeom>
          <a:ln w="25560">
            <a:solidFill>
              <a:srgbClr val="a355a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6  8  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1  2  2  6  7  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2  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16002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The leaves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09720" y="2057400"/>
            <a:ext cx="685800" cy="380880"/>
          </a:xfrm>
          <a:prstGeom prst="line">
            <a:avLst/>
          </a:prstGeom>
          <a:ln w="25560">
            <a:solidFill>
              <a:srgbClr val="00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09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n </a:t>
            </a: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= 1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724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The number of number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4114440"/>
            <a:ext cx="380880" cy="609480"/>
          </a:xfrm>
          <a:prstGeom prst="line">
            <a:avLst/>
          </a:prstGeom>
          <a:ln w="25560">
            <a:solidFill>
              <a:srgbClr val="412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257800" y="3809880"/>
            <a:ext cx="1828800" cy="457200"/>
            <a:chOff x="5257800" y="3809880"/>
            <a:chExt cx="1828800" cy="457200"/>
          </a:xfrm>
        </p:grpSpPr>
        <p:sp>
          <p:nvSpPr>
            <p:cNvPr id="62" name=""/>
            <p:cNvSpPr/>
            <p:nvPr/>
          </p:nvSpPr>
          <p:spPr>
            <a:xfrm>
              <a:off x="5257800" y="3809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a355ab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360" y="3809880"/>
              <a:ext cx="0" cy="45720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360" y="38098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3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  = 62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257800" y="4648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What stem-and-leaf represent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400800" y="4190760"/>
            <a:ext cx="457200" cy="533160"/>
          </a:xfrm>
          <a:prstGeom prst="line">
            <a:avLst/>
          </a:prstGeom>
          <a:ln w="25560">
            <a:solidFill>
              <a:srgbClr val="fffd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867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lowest number is 56 and the highest number is 8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143000"/>
            <a:ext cx="769608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791320"/>
            <a:ext cx="769608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5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75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5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25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3352680"/>
            <a:ext cx="3733920" cy="3048120"/>
          </a:xfrm>
          <a:prstGeom prst="rect">
            <a:avLst/>
          </a:prstGeom>
          <a:solidFill>
            <a:srgbClr val="fffdf9"/>
          </a:solidFill>
          <a:ln w="7632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143000"/>
            <a:ext cx="0" cy="160020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219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600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355ab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6  8  9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1600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1  2  2  6  7  9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981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2  4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List all the number in the stem-and-leaf diagram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914400"/>
            <a:ext cx="7696440" cy="0"/>
          </a:xfrm>
          <a:prstGeom prst="line">
            <a:avLst/>
          </a:prstGeom>
          <a:ln w="25560">
            <a:solidFill>
              <a:srgbClr val="28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429000"/>
            <a:ext cx="3504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The numbers are: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56, 58, 5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61, 62, 62, 66, 67, 6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72, 74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28179c"/>
                </a:solidFill>
                <a:latin typeface="Comic Sans MS"/>
              </a:rPr>
              <a:t>8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581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df9"/>
                </a:solidFill>
                <a:latin typeface="Comic Sans MS"/>
              </a:rPr>
              <a:t>In total, there are 12 number, so n = 12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4784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n </a:t>
            </a: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= 1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69916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The number of numbers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95880" y="5105160"/>
            <a:ext cx="381240" cy="609480"/>
          </a:xfrm>
          <a:prstGeom prst="line">
            <a:avLst/>
          </a:prstGeom>
          <a:ln w="25560">
            <a:solidFill>
              <a:srgbClr val="412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3352680"/>
            <a:ext cx="3733920" cy="3048120"/>
          </a:xfrm>
          <a:prstGeom prst="rect">
            <a:avLst/>
          </a:prstGeom>
          <a:noFill/>
          <a:ln w="76320">
            <a:solidFill>
              <a:srgbClr val="412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15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06:18Z</dcterms:modified>
  <cp:revision>4</cp:revision>
  <dc:subject/>
  <dc:title>PowerPoint Presentation</dc:title>
</cp:coreProperties>
</file>